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5D4-75A2-4DB7-8BD3-353F735C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2E7-E0AF-480A-AFDC-767ECB9C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B06-4D94-4371-903E-EB5D6EA7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255-6C4B-42E0-B3FC-893F7DA3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6BE1-926F-4EE7-B39F-8A70F93F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80F4-E8C3-4BCA-A25B-42529D41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EC77-45EE-42E7-8D8A-D8AF404B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4F5E-EA49-4CD3-9A7C-EC4A8536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BC88-EF55-4778-9249-2D4C5867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8CCF-AACD-4023-8303-75049701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C6FF-FEB5-4667-A3D8-2494E17D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7F5-CAAC-4C34-B90E-23C98BAF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2715-2DBE-49E9-B0BF-94AB7064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D359-B7DF-48A3-9C8F-EDB2AB18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F118-B884-4ED3-B126-24BDFFC3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8504-1699-492B-B78A-33E4573E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74AF-D76C-4246-9ACD-79310472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1BC-91E4-415A-9240-BB69E161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FFA-0060-447D-AB6E-EC94C9A5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1D16-4E9F-4224-BAA8-78D74DE2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D16-C8D1-479F-A19E-C0C8EED6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E43-29DF-4D31-AB4A-824D52E3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906D-F7BC-4714-9720-A233A9FA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606-C079-4023-88CA-274247A1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5850-D6CC-4D35-9825-648822029C72}" type="datetime3">
              <a:rPr b="0" lang="ru-RU" sz="1400" spc="-1" strike="noStrike">
                <a:solidFill>
                  <a:srgbClr val="003366"/>
                </a:solidFill>
                <a:latin typeface="Arial"/>
              </a:rPr>
              <a:t>29 июля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2E63-2CBB-414A-A24C-12FFD3532C4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83B1-9C1E-467C-85BC-98A57E20F5F8}" type="datetime3">
              <a:rPr b="0" lang="ru-RU" sz="1400" spc="-1" strike="noStrike">
                <a:solidFill>
                  <a:srgbClr val="ffffff"/>
                </a:solidFill>
                <a:latin typeface="Arial"/>
              </a:rPr>
              <a:t>29 июля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A9FE-F5BF-4FC4-BC78-D639029D824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нференция ООH по окружающей среде и развитию (Рио-де-Жанейро, 1992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нцепция перехода Российской Федерации к устойчивому развитию -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каз Президента РФ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 1 апреля 1996 года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осударственная стратегия устойчивого развития Российской Федерации –одобрена Правительством РФ в декабре 1997 год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нференция ООH по окружающей среде и развитию (Йоханнесбург, 2002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тандарты АА1000, введенные в 1999 году, и Руководство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RI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 отчетности 2002 год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004-2005 гг - решение ведущих корпораций России о внедрении концепции КСО и социальной отчетности, разработка и публикация первых 13 отчетов по международным стандарта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здание в 2004 году некоммерческого партнерства «КСО – Русский Центр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7F6-7664-48AC-AE40-0F7E4052E6FE}" type="slidenum">
              <a:t>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6AAC0-13C3-48F4-83CC-3CEF53B340B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тандарт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ccountAbility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100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A1000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Подотчетность 1000) служит форматом поддержки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I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других международных стандартов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яет процедуру разработки социального отчета (отчета по устойчивому развитию) и устанавливает принципы их верификации и оцен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9FA-3F4D-45D5-98D5-9A1C9834C4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EA270-49AD-4F24-8011-005B57344FD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АА1000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S –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азовый стандарт вовлечения стейкхолдеров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интересованные стороны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(стейкхолдеры)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это физические и юридические лица или группы лиц, которые влияют на организацию и ее деятельность и/или испытывают на себе влияние со стороны организации: акционеры, клиенты, потребители товаров и услуг организации; представители бизнеса, гражданского общества, государственной власти и профсоюзо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F7D-03E6-477F-8944-E25826C2268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642DD-795F-4D2C-942F-1EC96F7FC6E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тветственность (подотчетность) по стандарту АА1000 включает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Прозрачность</a:t>
            </a: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(перед стейкхолдерами и обществом в целом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Реагирование</a:t>
            </a: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(на изменения законов и правил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Соответствие</a:t>
            </a: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(принятым на себя обязательствам и используемым стандартам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001-0DA6-443C-8265-C00267A907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1D747-447E-42E7-9215-DF98BFFC207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инципы стандарта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A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Существен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Полнота предоставления информ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Реагирование на запросы и замечания заинтересованных сторон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ADD-59D0-4297-A556-C8511CDB99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52770-904C-414C-9550-5A5BE338AE8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казатели результативности в соответствии с Руководством GRI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кономика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10 основных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 2 дополнительных показателя результатив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колог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16 основных и 19 дополнительных показателей результатив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циальная политик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(труд, права человека, общество, ответственность за продукцию) - 24 основных и 25 дополнительных показателей результатив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716-F8D1-4471-8590-5FEED0675D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BAF1F-2892-44C8-88CD-DB410A1ED65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ез устойчивого развития территории (страны, региона, муниципалитета) не может быть устойчиво развивающегося бизне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 наоборот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ез устойчивого развития бизне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может быть устойчиво развивающейся территории (страны, региона, муниципалитет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A1D-D777-4798-8D50-9BB028E3D25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0F50F-D11F-49B0-9475-7115E06E00D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ат открытого диалога разработки, верификации и оценки социальных отчетов (отчетов по устойчивому развитию) бизнеса – «приводной ремень» межсекторного взаимодействия бизнеса с властью и обществом, важнейший инструмент социального партнерства и устойчивого развития территор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DDC-67FC-4089-A12D-71A3DC5998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6827B-04FF-4635-A98E-8EEA4FA5363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бота и отчетность по КСО и устойчивому развитию дает компании эффективный результат как минимум в форме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та имиджа и деловой репутации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та капитализации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крепления сплоченности трудового коллектива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вития прозрачности компании для общественност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вышения инвестиционной привлекательност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циального вклада в устойчивое развитие страны в цел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34C-17F9-459F-8E54-34DB0AB463C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1C6E6-B575-440B-AAC9-E76C86DA5B0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недрение стандарта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SO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1400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 начало 2005 года в России насчитывалось лишь 48 компаний, внедривших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O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4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EED-1834-4C1A-810B-604599DCDF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CE4D0-6705-4B62-9128-1E7238FC3C9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сонал социально ответственной и устойчиво развивающейся компании должен быть компетентен и обучен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правлять процессами КСО внутри компан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сти постоянный диалог на плановой основе со стейкхолдерам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ставлять ежегодный отчет по КСО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существлять постоянные плановые ПР-коммуникации о своей социальной ответственности и социальной политик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оббировать во взаимодействии со своими бизнес-партнерами и бизнес-сообществом в целом признание по-существу и по форме своей деятельности в области КС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8D2-6F5C-4AD3-917A-0ACF44FABD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098B2-D267-4880-8483-851D5218FFF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987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год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стойчивое развитие — это такое развитие, которое удовлетворяет потребности настоящего времени, но не ставит под угрозу способность будущих поколений удовлетворять свои собственные потребности (Комиссия Брундтланд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ment that meets the needs of the people today without compromising the ability of future generations to meet their own needs ("Brundtland Commission"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639-5887-4122-81B7-5F1F353E74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696ED-CE8C-46B2-BF78-AF9366E08D0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ерно ли утверждение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бсолютное большинство российских компаний еще не осознает всех преимуществ, которые дает ориентация стратегического и оперативного менеджмента на устойчивое развитие и  КСО, а также того факта, что только прозрачные компании, ведущие постоянный диалог со своими ключевыми аудиториями (заинтересованными сторонами), могут рассчитывать на </a:t>
            </a: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устойчивость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будущем -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220-266C-46E3-B334-1415D17445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548DA-5FE8-4307-B053-FFF609FDF56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ссийские компании – лидеры внедрения КСО и концепции устойчивого развития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АО «ЛУКОЙЛ», Сибнефть, Северо-западная лесопромышленная компания, РУСАЛ, ОАО «Северсталь», ГМК «Норильский никель», ОАО «ММК», АКБ «Росбанк», ЗАО «Альфа-Банк» и Тольяттинский «ФИА-БАНК», Татнефть, ЗАО «Илим Палп Энтерпрайз»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B24-1DD2-4A16-B2A5-6BC055D715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C107F-7990-4DDE-AFD5-F52F452484E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коммерческое партнерство «КСО - Русский Центр» создано в 2004 году и реализует свои уставные цели, выступая в качестве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иалоговой площадк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в треугольнике бизнес-власть-общество по проблемам КСО и устойчивого развития в Росси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аучно-методического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згового центр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ink Tank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) по устойчивому развитию страны, ее регионов и бизнес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центра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бучения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сновам и практикам социально ответственного менеджмента и устойчивого развития компан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теллектуального мост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по вопросам КСО и устойчивого развития между Россией, Западом и развитым Востоком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 системного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пуляризатора российских достижений на макро- и микроуровнях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области КСО в России и за рубеж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AE5-B3EA-4A35-8ADD-2FF9C970ECC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C782A-6279-41E9-BE5D-767B81FC1B6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артнеры КСО – РЦ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едерация мира и соглас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ссийская академия предприниматель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урнал «Бизнес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amp;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щество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П «Клуб корпоративных филантропов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ссийский союз промышленников и предпринимател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ссийский региональный экологический цент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Открытая дверь»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новых партнеров в стране и в ми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BD7-49CB-41C9-8ABF-AEB5B5D4637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37E07-18E7-463D-834C-EEAE1F0AF5A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ициатива КСО-РЦ по разработке «Свода основных признаков социально ответственной российской компании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дача-минимум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амоопределение российского бизнес-сообщества о своей социальной ответственности в обществе как постоянном вкладе в устойчивое развитие страны в целом: принципы, содержание, границы и т.д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дача-максимум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Обсуждение в рамках гражданского общества с участием профсоюзных объединений и Правительства РФ для его принципиального одобрения и использования всеми российскими компания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E7A-B6AC-4302-8C0B-B0F483FB5F4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7C853-3866-4AF4-A9B8-268CA134D4D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стойчивое развити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атегия устойчивого развития означает постепенное соединение в единую самоорганизующуюся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истему экономической, экологической и социальной сфер деятельност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 В этом смысле устойчивое развитие предполагает, как минимум, экономическую эффективность, биосферосовместимость и социальную справедливость при общем снижении антропогенного давления на биосфе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9DBD-E3C5-4160-B30A-B0FB64625C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588C0-D5F6-4753-94FA-B2D63DCB0F3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КС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SR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объединенной Европе и постепенно в России определяется как «концепция интеграции заботы о социальном и экологическом развитии в бизнес-операциях компаний во взаимодействии со своими акционерами и внешней средой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B7E-F17F-49AB-93CD-F1C587CFB2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ECFCA-8D56-4B8F-8140-874D07F6D62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Устойчивое развитие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КСО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стратегическая политика компан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составная часть корпоративного  управлен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отчет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483-66E3-4AB0-961A-96D73A8099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9C391-62C9-44AD-9583-221C479BFA8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Формы отчетности по социальной ответственности бизнес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циальный отч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чет о КС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чет по устойчивому развити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6CB-58C9-4FE2-B10A-0D448F3B92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FFF51-8BFF-4790-BAB6-274685E4968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ый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отчет –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веденные воедино перечень и описание всех социальных, спонсорских и благотворительных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оектов компан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3B1-3FFD-4DEA-83A9-6D92A39310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7E1DB-2583-4C00-B91D-2DAF110702E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тчет по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СО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рпоративные принципы, ценности и культу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ссия и стратегические цели компан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циальные политика по развитию коллекти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циальные, экологические и общественные проекты компании на местном, региональном и федеральном уровня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понсорство и благотворитель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удущие вызовы и задачи компан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38B-943B-43FB-96B3-239B4F1E67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F0359-91CC-45C0-B8B8-5CB7EBAAD0F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блемы КСО, социальной отчетности и устойчивого развития в Росс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чет по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устойчивому развитию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рпоративные принципы, ценности и культу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ссия и стратегические цели компан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кономическая результативность и развит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кологическая устойчивость производ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циальная политика компан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удущие вызовы и задачи компан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лексей Костин - КСО - Русский Центр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F26-8631-4E64-956E-1B45D84B983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5D19D-9449-4A99-AA39-47D7333A5D8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3:32:09Z</dcterms:created>
  <dc:creator>Юзер</dc:creator>
  <dc:description/>
  <dc:language>en-US</dc:language>
  <cp:lastModifiedBy>Olia</cp:lastModifiedBy>
  <cp:lastPrinted>2004-03-31T15:43:56Z</cp:lastPrinted>
  <dcterms:modified xsi:type="dcterms:W3CDTF">2005-12-16T12:45:14Z</dcterms:modified>
  <cp:revision>118</cp:revision>
  <dc:subject/>
  <dc:title>КСО - Персонал - ПР</dc:title>
</cp:coreProperties>
</file>