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6504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6504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6504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6504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6504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6504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120" y="4568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6504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6504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6504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6504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6504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6504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6504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6504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6504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4568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6504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6504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6504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2438" b="24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8520" indent="-308520">
              <a:spcBef>
                <a:spcPts val="751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1676520"/>
            <a:ext cx="6324840" cy="0"/>
          </a:xfrm>
          <a:prstGeom prst="line">
            <a:avLst/>
          </a:prstGeom>
          <a:ln w="76320">
            <a:solidFill>
              <a:srgbClr val="ce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0" r="2438" b="24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609480" y="18288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Palatino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6576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89360" y="4267080"/>
            <a:ext cx="6026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тратегическое планирование в городах и регионах:</a:t>
            </a:r>
            <a:br>
              <a:rPr sz="2000"/>
            </a:b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Как государство и бизнес могут укрепить друг дру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73876" r="48478" b="0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48478" b="18917"/>
          <a:stretch/>
        </p:blipFill>
        <p:spPr>
          <a:xfrm>
            <a:off x="511200" y="0"/>
            <a:ext cx="2368440" cy="563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410080"/>
            <a:ext cx="2971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ан Оверво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72120" y="0"/>
            <a:ext cx="3067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осударство и бизнес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ие и конкретные интересы</a:t>
            </a:r>
            <a:endParaRPr b="1" lang="en-US" sz="2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897520"/>
            <a:ext cx="236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648320"/>
            <a:ext cx="237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505320"/>
            <a:ext cx="232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057400"/>
            <a:ext cx="7467480" cy="45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инаково призваны служить своим целевым   аудиториям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ажданам и акционерам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инаково заинтересованы в здоровом и конкурентно-способном регионе/городе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инаково заинтересованы в подготовленных  профессиональных и мотивированных сотрудниках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АРТНЕР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изнес служит обществу, поддерживая местные проекты и выделяя время сотрудников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о может внести вклад за счет поддержки МСБ, снижению регулирования, уменьшения бюрократии и управления государством «как бизнесо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45200" y="2533680"/>
            <a:ext cx="237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600360"/>
            <a:ext cx="236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69200" y="4848120"/>
            <a:ext cx="207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03800" y="5897520"/>
            <a:ext cx="207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артнерство государства и бизнеса</a:t>
            </a:r>
            <a:endParaRPr b="1" lang="en-US" sz="2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изнес участвует в обсуждении вопрос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раструктуры / транспорта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разования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ажировок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профессионального обучени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ипендий студентам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кологии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икоррупционных мер и  действ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держки программ, совпадающих с интересами компани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ожительное влияние на местное сообщество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абачные, алкогольные компании – программы обучения молодежи и создание медицинских центров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ищевые – программы здорового питания для населения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овременные технологии – проекты развития инфраструктуры и образования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ивлечение внимания собственников к общественным нуждам в обмен на «хорошее имя»/статус: парки, библиотеки, музеи, спортивные сооружения, медицинские центры и т.п.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ивлечение сотрудников компаний к участию в делах местного сообщества: добровольная работа в мед. Учреждениях, преподавание, уборка территорий, усыновление сирот и т.п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рпоративная социальная ответственность: примеры</a:t>
            </a:r>
            <a:endParaRPr b="1" lang="en-US" sz="2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057400"/>
            <a:ext cx="746748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lesforce.com (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ША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ыделяет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%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ремени сотруд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%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прибы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%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 местные нужды, ориентированные на молодежь и обучение новым технологиям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ilever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Россия – привлекает на работу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20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рачей для обучения докторов-диетологов по вопросам здорового питания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целях снижения риска сердечно-сосудистых заболеваний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трудники работают на уборке парков, ремонте детского дома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ohnson&amp;Johnson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– международная медицинская программа в регионах деятельности компании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ажность малого бизнеса</a:t>
            </a:r>
            <a:endParaRPr b="1" lang="en-US" sz="2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США малый бизнес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-5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труднико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здает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80%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бочих мест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!)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В современных экономических условиях малый бизнес является движущей сило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вития занятости и повышения благосостояния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лый бизнес предоставляет крупным компаниям гибкие услуги по аутсорсингу: курьерскую службу, службу поддержки,  уборку, общественное питание, прием звонков, подбор кадров и т.п.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лый бизнес предоставляет потребителям больше выбора, продукции и услуг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грады на пути развития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лого предпринимательства</a:t>
            </a:r>
            <a:endParaRPr b="1" lang="en-US" sz="2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ля малого бизнеса административные и юридические преграды так же сложны, как и рыночные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200400"/>
            <a:ext cx="373392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buClr>
                <a:srgbClr val="0036cf"/>
              </a:buClr>
              <a:buSzPct val="77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CE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астые провер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buClr>
                <a:srgbClr val="0036cf"/>
              </a:buClr>
              <a:buSzPct val="77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 CE Book"/>
              </a:rPr>
              <a:t>D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сложности регистрации и лицензирования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buClr>
                <a:srgbClr val="0036cf"/>
              </a:buClr>
              <a:buSzPct val="77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 CE Book"/>
              </a:rPr>
              <a:t>D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трудности финансирования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buClr>
                <a:srgbClr val="0036cf"/>
              </a:buClr>
              <a:buSzPct val="77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 CE Book"/>
              </a:rPr>
              <a:t>H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высокие налоги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buClr>
                <a:srgbClr val="0036cf"/>
              </a:buClr>
              <a:buSzPct val="77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utura CE Book"/>
              </a:rPr>
              <a:t>C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конкуренция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buClr>
                <a:srgbClr val="0036cf"/>
              </a:buClr>
              <a:buSzPct val="77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корруп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68680" y="2971800"/>
            <a:ext cx="557532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оль МСБ в экономике России</a:t>
            </a:r>
            <a:endParaRPr b="1" lang="en-US" sz="2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BatangChe"/>
              </a:rPr>
              <a:t>953.1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ыс. предприятий МСБ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BatangChe"/>
              </a:rPr>
              <a:t>13.6%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ВВП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BatangChe"/>
              </a:rPr>
              <a:t>,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из них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BatangChe"/>
              </a:rPr>
              <a:t> 33%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 строительстве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BatangChe"/>
              </a:rPr>
              <a:t>,  13.2%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торговля и общественное питание,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BatangChe"/>
              </a:rPr>
              <a:t>10%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научно-исследовательские разработк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BatangChe"/>
              </a:rPr>
              <a:t>14.9%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рабочих мес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BatangChe"/>
              </a:rPr>
              <a:t>3.4%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капиталовложений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6880" y="4149720"/>
            <a:ext cx="3867120" cy="414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76880" y="3863880"/>
            <a:ext cx="3867120" cy="2232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3581280"/>
            <a:ext cx="388620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6880" y="3276720"/>
            <a:ext cx="386712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76880" y="2971440"/>
            <a:ext cx="3867120" cy="126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76880" y="2697120"/>
            <a:ext cx="3867120" cy="4608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276880" y="2361960"/>
            <a:ext cx="3867120" cy="428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76880" y="2111400"/>
            <a:ext cx="3867120" cy="2232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727360"/>
            <a:ext cx="210960" cy="1708200"/>
          </a:xfrm>
          <a:prstGeom prst="rect">
            <a:avLst/>
          </a:prstGeom>
          <a:solidFill>
            <a:srgbClr val="ff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2881440"/>
            <a:ext cx="210960" cy="1557360"/>
          </a:xfrm>
          <a:prstGeom prst="rect">
            <a:avLst/>
          </a:prstGeom>
          <a:solidFill>
            <a:srgbClr val="ff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2714760"/>
            <a:ext cx="210960" cy="1707840"/>
          </a:xfrm>
          <a:prstGeom prst="rect">
            <a:avLst/>
          </a:prstGeom>
          <a:solidFill>
            <a:srgbClr val="ff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2957400"/>
            <a:ext cx="209520" cy="1489320"/>
          </a:xfrm>
          <a:prstGeom prst="rect">
            <a:avLst/>
          </a:prstGeom>
          <a:solidFill>
            <a:srgbClr val="ff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924280"/>
            <a:ext cx="210960" cy="1504800"/>
          </a:xfrm>
          <a:prstGeom prst="rect">
            <a:avLst/>
          </a:prstGeom>
          <a:solidFill>
            <a:srgbClr val="ff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05920" y="3990960"/>
            <a:ext cx="228600" cy="419040"/>
          </a:xfrm>
          <a:prstGeom prst="rect">
            <a:avLst/>
          </a:prstGeom>
          <a:solidFill>
            <a:srgbClr val="ff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286000"/>
            <a:ext cx="203040" cy="21286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286000"/>
            <a:ext cx="203040" cy="21589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590920"/>
            <a:ext cx="203040" cy="182880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2895480"/>
            <a:ext cx="203040" cy="15271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2757600"/>
            <a:ext cx="203040" cy="16477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62960" y="3914640"/>
            <a:ext cx="195120" cy="4906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6360" y="2111400"/>
            <a:ext cx="1440" cy="233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10200" y="44434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0200" y="414972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0200" y="386388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0200" y="357012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0200" y="327672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10200" y="298440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10200" y="269712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10200" y="240516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4419720"/>
            <a:ext cx="4114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40440" y="444348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867280" y="4419360"/>
            <a:ext cx="180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4419360"/>
            <a:ext cx="144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010280" y="4419360"/>
            <a:ext cx="180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696080" y="4419360"/>
            <a:ext cx="180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229600" y="4419360"/>
            <a:ext cx="144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6000" y="253368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1800" y="268596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1280" y="251460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2743200"/>
            <a:ext cx="533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2666880"/>
            <a:ext cx="7606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5920" y="3657600"/>
            <a:ext cx="83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51280" y="215568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81360" y="212580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2362320"/>
            <a:ext cx="557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2590920"/>
            <a:ext cx="457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2438280"/>
            <a:ext cx="7603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10480" y="3352680"/>
            <a:ext cx="533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5480" y="4383000"/>
            <a:ext cx="221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5120" y="408924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5120" y="380376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5120" y="351000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5120" y="321624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5120" y="292428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5120" y="263844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7480" y="2368440"/>
            <a:ext cx="30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163840" y="4816440"/>
            <a:ext cx="379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CE Book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5796720" y="4791600"/>
            <a:ext cx="482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CE Book"/>
              </a:rPr>
              <a:t>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6235560" y="4809960"/>
            <a:ext cx="671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CE Book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6950160" y="4781160"/>
            <a:ext cx="461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CE Book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7562880" y="4552560"/>
            <a:ext cx="7635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CE Book"/>
              </a:rPr>
              <a:t>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8128440" y="4732920"/>
            <a:ext cx="542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CE Book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8120" y="5392800"/>
            <a:ext cx="1446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utura CE Book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Futura CE Book"/>
              </a:rPr>
              <a:t>доля МСБ в ВВ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7320" y="5392800"/>
            <a:ext cx="1963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utura CE Book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Futura CE Book"/>
              </a:rPr>
              <a:t>доля МСБ в занят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040" y="3957480"/>
            <a:ext cx="1440" cy="228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2960" y="624672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2960" y="586728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2960" y="548172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2960" y="51022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2960" y="472284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2960" y="433692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960" y="395748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6191280"/>
            <a:ext cx="3963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03200" y="62467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95320" y="63277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179360" y="632772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463760" y="63277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39880" y="63277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023920" y="632772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308320" y="63277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92360" y="63277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876400" y="632772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60800" y="63277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444840" y="632772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22760" y="632772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06800" y="632772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290840" y="632772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572000" y="6327720"/>
            <a:ext cx="4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49160" y="5321160"/>
            <a:ext cx="284400" cy="648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033560" y="5276520"/>
            <a:ext cx="284040" cy="4428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317600" y="5262480"/>
            <a:ext cx="284040" cy="1440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1640" y="5262480"/>
            <a:ext cx="284400" cy="648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86040" y="5153040"/>
            <a:ext cx="284040" cy="11592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170080" y="5029200"/>
            <a:ext cx="284040" cy="12384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54120" y="4883040"/>
            <a:ext cx="276480" cy="14616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0600" y="4773600"/>
            <a:ext cx="284040" cy="10944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14640" y="4649760"/>
            <a:ext cx="284040" cy="12384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298680" y="4525920"/>
            <a:ext cx="284400" cy="12384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3080" y="4394160"/>
            <a:ext cx="284040" cy="13176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867120" y="4255920"/>
            <a:ext cx="284040" cy="13824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151160" y="4095360"/>
            <a:ext cx="285840" cy="16020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9160" y="5408640"/>
            <a:ext cx="284400" cy="936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33560" y="5502240"/>
            <a:ext cx="284040" cy="302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7600" y="5532480"/>
            <a:ext cx="284040" cy="5076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01640" y="5524200"/>
            <a:ext cx="284400" cy="5868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86040" y="5436720"/>
            <a:ext cx="284040" cy="8748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170080" y="5335560"/>
            <a:ext cx="284040" cy="10152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454120" y="5226120"/>
            <a:ext cx="276480" cy="109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730600" y="5138280"/>
            <a:ext cx="284040" cy="8748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014640" y="5043600"/>
            <a:ext cx="284040" cy="950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98680" y="4947840"/>
            <a:ext cx="284400" cy="954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583080" y="4854600"/>
            <a:ext cx="284040" cy="9360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867120" y="4750920"/>
            <a:ext cx="284040" cy="10332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151160" y="4635360"/>
            <a:ext cx="285840" cy="11592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8640" y="3879720"/>
            <a:ext cx="2719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Futura CE Book"/>
              </a:rPr>
              <a:t>Малый бизнес в России -</a:t>
            </a:r>
            <a:r>
              <a:rPr b="1" lang="en-US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Futura CE Book"/>
              </a:rPr>
              <a:t>– </a:t>
            </a:r>
            <a:r>
              <a:rPr b="1" lang="ru-RU" sz="1600" spc="-1" strike="noStrike">
                <a:solidFill>
                  <a:srgbClr val="ffff00"/>
                </a:solidFill>
                <a:latin typeface="Futura CE Book"/>
              </a:rPr>
              <a:t>роль в экономи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640" y="61880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8640" y="58086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7160" y="54230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7160" y="504360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7160" y="466416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7160" y="4278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7160" y="389880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724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32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5360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4088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996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1724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0632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9360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8232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960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868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4596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33240" y="6400800"/>
            <a:ext cx="226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456480" y="2514600"/>
            <a:ext cx="15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65080" y="5823000"/>
            <a:ext cx="190440" cy="1440"/>
          </a:xfrm>
          <a:prstGeom prst="line">
            <a:avLst/>
          </a:prstGeom>
          <a:ln w="7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32840" y="5715000"/>
            <a:ext cx="1360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Futura CE Book"/>
              </a:rPr>
              <a:t>Доля занят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65080" y="5969160"/>
            <a:ext cx="190440" cy="1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73880" y="5923080"/>
            <a:ext cx="84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Futura CE Book"/>
              </a:rPr>
              <a:t>Доля ВВ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570040" y="4307040"/>
            <a:ext cx="7920" cy="1706400"/>
            <a:chOff x="2570040" y="4307040"/>
            <a:chExt cx="7920" cy="1706400"/>
          </a:xfrm>
        </p:grpSpPr>
        <p:sp>
          <p:nvSpPr>
            <p:cNvPr id="246" name=""/>
            <p:cNvSpPr/>
            <p:nvPr/>
          </p:nvSpPr>
          <p:spPr>
            <a:xfrm>
              <a:off x="2570040" y="4307040"/>
              <a:ext cx="7920" cy="2988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70040" y="435132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0040" y="440208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70040" y="445284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70040" y="450360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0040" y="45561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70040" y="460692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70040" y="465768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70040" y="470844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70040" y="475920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70040" y="481032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70040" y="486108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70040" y="491328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70040" y="496404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70040" y="501480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70040" y="506592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70040" y="511668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70040" y="516744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0040" y="521820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70040" y="526896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70040" y="532116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70040" y="537228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70040" y="542304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70040" y="547380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70040" y="552456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70040" y="557532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70040" y="562608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70040" y="567864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70040" y="572940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70040" y="578016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70040" y="5830920"/>
              <a:ext cx="7920" cy="363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70040" y="588168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70040" y="593244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70040" y="5983200"/>
              <a:ext cx="7920" cy="30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766960" y="5788080"/>
            <a:ext cx="1633680" cy="79200"/>
            <a:chOff x="2766960" y="5788080"/>
            <a:chExt cx="1633680" cy="79200"/>
          </a:xfrm>
        </p:grpSpPr>
        <p:sp>
          <p:nvSpPr>
            <p:cNvPr id="281" name=""/>
            <p:cNvSpPr/>
            <p:nvPr/>
          </p:nvSpPr>
          <p:spPr>
            <a:xfrm>
              <a:off x="2766960" y="5823000"/>
              <a:ext cx="16257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76800" y="5788080"/>
              <a:ext cx="123840" cy="79200"/>
            </a:xfrm>
            <a:custGeom>
              <a:avLst/>
              <a:gdLst/>
              <a:ahLst/>
              <a:rect l="l" t="t" r="r" b="b"/>
              <a:pathLst>
                <a:path w="78" h="50">
                  <a:moveTo>
                    <a:pt x="0" y="50"/>
                  </a:moveTo>
                  <a:lnTo>
                    <a:pt x="78" y="2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994120" y="5597640"/>
            <a:ext cx="128268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74320" y="5605560"/>
            <a:ext cx="717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Futura CE Book"/>
              </a:rPr>
              <a:t>прогно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5464080"/>
            <a:ext cx="60480" cy="60480"/>
          </a:xfrm>
          <a:prstGeom prst="rect">
            <a:avLst/>
          </a:prstGeom>
          <a:solidFill>
            <a:srgbClr val="ff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69240" y="5464080"/>
            <a:ext cx="58680" cy="604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97600" y="5753160"/>
            <a:ext cx="38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36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utura CE Book"/>
              </a:rPr>
              <a:t>…</a:t>
            </a:r>
            <a:r>
              <a:rPr b="0" lang="ru-RU" sz="20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Futura CE Book"/>
              </a:rPr>
              <a:t>имеют огромный потенциал дальнейшего рост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лый бизнес – связующее звено местной экономики.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гионы, стимулирующие малый бизнес, имеют больше преимуществ.</a:t>
            </a:r>
            <a:endParaRPr b="1" lang="en-US" sz="2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_s8200"/>
          <p:cNvSpPr/>
          <p:nvPr/>
        </p:nvSpPr>
        <p:spPr>
          <a:xfrm>
            <a:off x="895320" y="2205000"/>
            <a:ext cx="2932200" cy="2932200"/>
          </a:xfrm>
          <a:custGeom>
            <a:avLst/>
            <a:gdLst>
              <a:gd name="textAreaLeft" fmla="*/ 0 w 2932200"/>
              <a:gd name="textAreaRight" fmla="*/ 2932560 w 2932200"/>
              <a:gd name="textAreaTop" fmla="*/ 0 h 2932200"/>
              <a:gd name="textAreaBottom" fmla="*/ 2932560 h 2932200"/>
            </a:gdLst>
            <a:ahLst/>
            <a:rect l="textAreaLeft" t="textAreaTop" r="textAreaRight" b="textAreaBottom"/>
            <a:pathLst>
              <a:path w="21600" h="21600">
                <a:moveTo>
                  <a:pt x="9550" y="17891"/>
                </a:moveTo>
                <a:arcTo wR="-7200" hR="-7200" stAng="6000000" swAng="-3000000"/>
                <a:lnTo>
                  <a:pt x="3858" y="2527"/>
                </a:lnTo>
                <a:arcTo wR="10800" hR="10800" stAng="-7800000" swAng="3000000"/>
                <a:lnTo>
                  <a:pt x="13144" y="-2495"/>
                </a:lnTo>
                <a:lnTo>
                  <a:pt x="16794" y="2718"/>
                </a:lnTo>
                <a:lnTo>
                  <a:pt x="11581" y="636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_s8201"/>
          <p:cNvSpPr/>
          <p:nvPr/>
        </p:nvSpPr>
        <p:spPr>
          <a:xfrm rot="7200000">
            <a:off x="1296720" y="2900160"/>
            <a:ext cx="2931840" cy="2932200"/>
          </a:xfrm>
          <a:custGeom>
            <a:avLst/>
            <a:gdLst>
              <a:gd name="textAreaLeft" fmla="*/ 0 w 2931840"/>
              <a:gd name="textAreaRight" fmla="*/ 2932200 w 2931840"/>
              <a:gd name="textAreaTop" fmla="*/ 0 h 2932200"/>
              <a:gd name="textAreaBottom" fmla="*/ 2932560 h 2932200"/>
            </a:gdLst>
            <a:ahLst/>
            <a:rect l="textAreaLeft" t="textAreaTop" r="textAreaRight" b="textAreaBottom"/>
            <a:pathLst>
              <a:path w="21600" h="21600">
                <a:moveTo>
                  <a:pt x="9550" y="17891"/>
                </a:moveTo>
                <a:arcTo wR="-7200" hR="-7200" stAng="6000000" swAng="-3000000"/>
                <a:lnTo>
                  <a:pt x="3858" y="2527"/>
                </a:lnTo>
                <a:arcTo wR="10800" hR="10800" stAng="-7800000" swAng="3000000"/>
                <a:lnTo>
                  <a:pt x="13144" y="-2495"/>
                </a:lnTo>
                <a:lnTo>
                  <a:pt x="16794" y="2718"/>
                </a:lnTo>
                <a:lnTo>
                  <a:pt x="11581" y="636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_s8203"/>
          <p:cNvSpPr/>
          <p:nvPr/>
        </p:nvSpPr>
        <p:spPr>
          <a:xfrm rot="14400000">
            <a:off x="493560" y="2899800"/>
            <a:ext cx="2931840" cy="2932200"/>
          </a:xfrm>
          <a:custGeom>
            <a:avLst/>
            <a:gdLst>
              <a:gd name="textAreaLeft" fmla="*/ 0 w 2931840"/>
              <a:gd name="textAreaRight" fmla="*/ 2932200 w 2931840"/>
              <a:gd name="textAreaTop" fmla="*/ 0 h 2932200"/>
              <a:gd name="textAreaBottom" fmla="*/ 2932560 h 2932200"/>
            </a:gdLst>
            <a:ahLst/>
            <a:rect l="textAreaLeft" t="textAreaTop" r="textAreaRight" b="textAreaBottom"/>
            <a:pathLst>
              <a:path w="21600" h="21600">
                <a:moveTo>
                  <a:pt x="9550" y="17891"/>
                </a:moveTo>
                <a:arcTo wR="-7200" hR="-7200" stAng="6000000" swAng="-3000000"/>
                <a:lnTo>
                  <a:pt x="3858" y="2527"/>
                </a:lnTo>
                <a:arcTo wR="10800" hR="10800" stAng="-7800000" swAng="3000000"/>
                <a:lnTo>
                  <a:pt x="13144" y="-2495"/>
                </a:lnTo>
                <a:lnTo>
                  <a:pt x="16794" y="2718"/>
                </a:lnTo>
                <a:lnTo>
                  <a:pt x="11581" y="636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_s8198"/>
          <p:cNvSpPr/>
          <p:nvPr/>
        </p:nvSpPr>
        <p:spPr>
          <a:xfrm>
            <a:off x="3164040" y="2741760"/>
            <a:ext cx="11761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равительств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стимулируе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развитие МС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_s8199"/>
          <p:cNvSpPr/>
          <p:nvPr/>
        </p:nvSpPr>
        <p:spPr>
          <a:xfrm>
            <a:off x="1905120" y="5181480"/>
            <a:ext cx="11761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Регион станови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более привлекательны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с равномерным распреде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богатств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_s8202"/>
          <p:cNvSpPr/>
          <p:nvPr/>
        </p:nvSpPr>
        <p:spPr>
          <a:xfrm>
            <a:off x="228600" y="2819520"/>
            <a:ext cx="11764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Регион станови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ривлекательне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для инвесторов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больше услуг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выше благосостоя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отребителей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438280"/>
            <a:ext cx="43434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упное микро    финансирование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ильная аренда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изнес-центр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зрачные и быстрые   процедуры согласований и лицензир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сультировани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алата МСБ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диалог и поддержка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ставничество со стороны опытных бизнесменов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190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 развития малого бизнеса</a:t>
            </a:r>
            <a:endParaRPr b="1" lang="en-US" sz="2400" spc="-1" strike="noStrike">
              <a:solidFill>
                <a:srgbClr val="ffff00"/>
              </a:solidFill>
              <a:latin typeface="Palatin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УАЛ и Фонд Евразия создают структуру поддержки МСБ (г. Михайловск, г. Нижний Сергий Свердловския Обла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BLF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оказывает поддержку Совету по развитию малого бизнеса в Новосибирске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Программа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Youth Business International”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действует во многих странах мира: обучение и поддержка предпринимательства среди молодежи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Торговая Палата Нидерландов: юридическая информация, обучение предпринимателей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США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Совет малого бизнеса и предпринимателей – оказывает политическую поддержку и защиту малым предпринимателям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0:39:31Z</dcterms:created>
  <dc:creator>Joe Phelan</dc:creator>
  <dc:description/>
  <dc:language>en-US</dc:language>
  <cp:lastModifiedBy>Olia</cp:lastModifiedBy>
  <cp:lastPrinted>2000-09-05T17:09:53Z</cp:lastPrinted>
  <dcterms:modified xsi:type="dcterms:W3CDTF">2005-12-16T12:43:47Z</dcterms:modified>
  <cp:revision>34</cp:revision>
  <dc:subject/>
  <dc:title>Introduction to the Forum</dc:title>
</cp:coreProperties>
</file>